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F6F-B3B3-4B51-86DF-5A6D2EAA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B3C-53F4-48FB-8064-7CCE2458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0049-D49A-443F-A68D-69BF522B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77A-2D55-488C-A819-C2F3A4BC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9C0F-34E9-4BD3-AAAD-D5F1A496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253-FB37-43E3-A03C-642D96FC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2E1-B80F-4209-B1F4-862EEE5F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3AC-BE3A-40BC-9174-7F42D41D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07C-BFFA-4F54-BB2B-DC2FA401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AF1-9B0A-48E6-810C-A4ECE635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7E01-FF1F-45C3-B5EB-121A98BB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03D-67C2-4B04-A7E3-DF218529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A12B-484B-44BA-99EF-1FCFC3A8A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3.png"/><Relationship Id="rId16" Type="http://schemas.openxmlformats.org/officeDocument/2006/relationships/image" Target="../media/image6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3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iry 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asy to count your mon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ining presentation:  Ann We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2286000" cy="153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2481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: Place your hair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hai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29200" y="1447920"/>
            <a:ext cx="376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count the hairs by 5 you get the amount the coin eq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00400" y="2514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4267080" y="26665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380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: Place your hair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hai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h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29200" y="1447920"/>
            <a:ext cx="376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count the hairs by 5 you get the amount the coin eq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counting the hairs on the d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get 10 cents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soooo eas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00400" y="2514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76720" y="38098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V="1">
            <a:off x="4267080" y="26665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038480" y="3809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114800" y="403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2286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: Place your hair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hai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h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h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029200" y="1447920"/>
            <a:ext cx="376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count the hairs by 5 you get the amount the coin eq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counting the hairs on the d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get 10 cents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soooo eas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00400" y="2514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276720" y="38098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124080" y="4876920"/>
            <a:ext cx="1333800" cy="1333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V="1">
            <a:off x="4267080" y="26665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038480" y="3809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14800" y="403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191120" y="472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343400" y="502884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419720" y="548604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123720" y="480024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7432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2286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342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4952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44956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4876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5334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:  Count by fives and on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coin has hair, count hairs by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on ones to add your pennies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3581280"/>
          <a:ext cx="8076960" cy="1782720"/>
        </p:xfrm>
        <a:graphic>
          <a:graphicData uri="http://schemas.openxmlformats.org/drawingml/2006/table">
            <a:tbl>
              <a:tblPr/>
              <a:tblGrid>
                <a:gridCol w="8076960"/>
              </a:tblGrid>
              <a:tr h="17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057400" y="3657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200400" y="38862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343400" y="36576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867280" y="3657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391520" y="37339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>
            <a:off x="1295280" y="4800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09320" y="4495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61960" y="4572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343040" y="49528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648320" y="49528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105160" y="48769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191120" y="4648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:  Count by fives and on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coin has hair, count hairs by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on ones to add your pennies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09480" y="3581280"/>
          <a:ext cx="8076960" cy="1782720"/>
        </p:xfrm>
        <a:graphic>
          <a:graphicData uri="http://schemas.openxmlformats.org/drawingml/2006/table">
            <a:tbl>
              <a:tblPr/>
              <a:tblGrid>
                <a:gridCol w="8076960"/>
              </a:tblGrid>
              <a:tr h="17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057400" y="3657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200400" y="38862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343400" y="36576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867280" y="3657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7391520" y="37339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1295280" y="4800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09320" y="4495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361960" y="4572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343040" y="49528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648320" y="49528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105160" y="48769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91120" y="4648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029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5334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5029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419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5029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6172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6248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6248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4:  Practice and Show Off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dime" descr=""/>
          <p:cNvPicPr/>
          <p:nvPr/>
        </p:nvPicPr>
        <p:blipFill>
          <a:blip r:embed="rId1"/>
          <a:stretch/>
        </p:blipFill>
        <p:spPr>
          <a:xfrm>
            <a:off x="380880" y="5715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77" name="nickelback" descr=""/>
          <p:cNvPicPr/>
          <p:nvPr/>
        </p:nvPicPr>
        <p:blipFill>
          <a:blip r:embed="rId2"/>
          <a:stretch/>
        </p:blipFill>
        <p:spPr>
          <a:xfrm>
            <a:off x="701028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pennyback" descr=""/>
          <p:cNvPicPr/>
          <p:nvPr/>
        </p:nvPicPr>
        <p:blipFill>
          <a:blip r:embed="rId3"/>
          <a:stretch/>
        </p:blipFill>
        <p:spPr>
          <a:xfrm>
            <a:off x="7315200" y="29718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79" name="quart" descr=""/>
          <p:cNvPicPr/>
          <p:nvPr/>
        </p:nvPicPr>
        <p:blipFill>
          <a:blip r:embed="rId4"/>
          <a:stretch/>
        </p:blipFill>
        <p:spPr>
          <a:xfrm>
            <a:off x="6095880" y="2438280"/>
            <a:ext cx="962280" cy="962280"/>
          </a:xfrm>
          <a:prstGeom prst="rect">
            <a:avLst/>
          </a:prstGeom>
          <a:ln w="0">
            <a:noFill/>
          </a:ln>
        </p:spPr>
      </p:pic>
      <p:pic>
        <p:nvPicPr>
          <p:cNvPr id="180" name="quarter" descr=""/>
          <p:cNvPicPr/>
          <p:nvPr/>
        </p:nvPicPr>
        <p:blipFill>
          <a:blip r:embed="rId5"/>
          <a:stretch/>
        </p:blipFill>
        <p:spPr>
          <a:xfrm>
            <a:off x="5562720" y="40384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181" name="dimefront" descr=""/>
          <p:cNvPicPr/>
          <p:nvPr/>
        </p:nvPicPr>
        <p:blipFill>
          <a:blip r:embed="rId6"/>
          <a:stretch/>
        </p:blipFill>
        <p:spPr>
          <a:xfrm>
            <a:off x="4572000" y="31240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82" name="dime" descr=""/>
          <p:cNvPicPr/>
          <p:nvPr/>
        </p:nvPicPr>
        <p:blipFill>
          <a:blip r:embed="rId7"/>
          <a:stretch/>
        </p:blipFill>
        <p:spPr>
          <a:xfrm>
            <a:off x="3276720" y="40384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83" name="pennyback" descr=""/>
          <p:cNvPicPr/>
          <p:nvPr/>
        </p:nvPicPr>
        <p:blipFill>
          <a:blip r:embed="rId8"/>
          <a:stretch/>
        </p:blipFill>
        <p:spPr>
          <a:xfrm>
            <a:off x="4724280" y="42670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84" name="penny" descr=""/>
          <p:cNvPicPr/>
          <p:nvPr/>
        </p:nvPicPr>
        <p:blipFill>
          <a:blip r:embed="rId9"/>
          <a:stretch/>
        </p:blipFill>
        <p:spPr>
          <a:xfrm>
            <a:off x="2514600" y="44197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85" name="nickelback" descr=""/>
          <p:cNvPicPr/>
          <p:nvPr/>
        </p:nvPicPr>
        <p:blipFill>
          <a:blip r:embed="rId10"/>
          <a:stretch/>
        </p:blipFill>
        <p:spPr>
          <a:xfrm>
            <a:off x="1676520" y="4495680"/>
            <a:ext cx="733320" cy="733680"/>
          </a:xfrm>
          <a:prstGeom prst="rect">
            <a:avLst/>
          </a:prstGeom>
          <a:ln w="0">
            <a:noFill/>
          </a:ln>
        </p:spPr>
      </p:pic>
      <p:pic>
        <p:nvPicPr>
          <p:cNvPr id="186" name="nickel" descr=""/>
          <p:cNvPicPr/>
          <p:nvPr/>
        </p:nvPicPr>
        <p:blipFill>
          <a:blip r:embed="rId11"/>
          <a:stretch/>
        </p:blipFill>
        <p:spPr>
          <a:xfrm>
            <a:off x="685800" y="426708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187" name="nickel" descr=""/>
          <p:cNvPicPr/>
          <p:nvPr/>
        </p:nvPicPr>
        <p:blipFill>
          <a:blip r:embed="rId12"/>
          <a:stretch/>
        </p:blipFill>
        <p:spPr>
          <a:xfrm>
            <a:off x="3429000" y="25146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188" name="dimefront" descr=""/>
          <p:cNvPicPr/>
          <p:nvPr/>
        </p:nvPicPr>
        <p:blipFill>
          <a:blip r:embed="rId13"/>
          <a:stretch/>
        </p:blipFill>
        <p:spPr>
          <a:xfrm>
            <a:off x="457200" y="30481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89" name="dimefront" descr=""/>
          <p:cNvPicPr/>
          <p:nvPr/>
        </p:nvPicPr>
        <p:blipFill>
          <a:blip r:embed="rId14"/>
          <a:stretch/>
        </p:blipFill>
        <p:spPr>
          <a:xfrm>
            <a:off x="7848720" y="14479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90" name="dime" descr=""/>
          <p:cNvPicPr/>
          <p:nvPr/>
        </p:nvPicPr>
        <p:blipFill>
          <a:blip r:embed="rId15"/>
          <a:stretch/>
        </p:blipFill>
        <p:spPr>
          <a:xfrm>
            <a:off x="6781680" y="15238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91" name="penny" descr=""/>
          <p:cNvPicPr/>
          <p:nvPr/>
        </p:nvPicPr>
        <p:blipFill>
          <a:blip r:embed="rId16"/>
          <a:stretch/>
        </p:blipFill>
        <p:spPr>
          <a:xfrm>
            <a:off x="6019920" y="16002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92" name="quart" descr=""/>
          <p:cNvPicPr/>
          <p:nvPr/>
        </p:nvPicPr>
        <p:blipFill>
          <a:blip r:embed="rId17"/>
          <a:stretch/>
        </p:blipFill>
        <p:spPr>
          <a:xfrm>
            <a:off x="4724280" y="1371600"/>
            <a:ext cx="962280" cy="961920"/>
          </a:xfrm>
          <a:prstGeom prst="rect">
            <a:avLst/>
          </a:prstGeom>
          <a:ln w="0">
            <a:noFill/>
          </a:ln>
        </p:spPr>
      </p:pic>
      <p:pic>
        <p:nvPicPr>
          <p:cNvPr id="193" name="quart" descr=""/>
          <p:cNvPicPr/>
          <p:nvPr/>
        </p:nvPicPr>
        <p:blipFill>
          <a:blip r:embed="rId18"/>
          <a:stretch/>
        </p:blipFill>
        <p:spPr>
          <a:xfrm>
            <a:off x="1219320" y="2514600"/>
            <a:ext cx="961920" cy="961920"/>
          </a:xfrm>
          <a:prstGeom prst="rect">
            <a:avLst/>
          </a:prstGeom>
          <a:ln w="0">
            <a:noFill/>
          </a:ln>
        </p:spPr>
      </p:pic>
      <p:pic>
        <p:nvPicPr>
          <p:cNvPr id="194" name="dime" descr=""/>
          <p:cNvPicPr/>
          <p:nvPr/>
        </p:nvPicPr>
        <p:blipFill>
          <a:blip r:embed="rId19"/>
          <a:stretch/>
        </p:blipFill>
        <p:spPr>
          <a:xfrm>
            <a:off x="3200400" y="14479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95" name="nickel" descr=""/>
          <p:cNvPicPr/>
          <p:nvPr/>
        </p:nvPicPr>
        <p:blipFill>
          <a:blip r:embed="rId20"/>
          <a:stretch/>
        </p:blipFill>
        <p:spPr>
          <a:xfrm>
            <a:off x="1981080" y="129528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196" name="penny" descr=""/>
          <p:cNvPicPr/>
          <p:nvPr/>
        </p:nvPicPr>
        <p:blipFill>
          <a:blip r:embed="rId21"/>
          <a:stretch/>
        </p:blipFill>
        <p:spPr>
          <a:xfrm>
            <a:off x="2666880" y="28954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97" name="pennyback" descr=""/>
          <p:cNvPicPr/>
          <p:nvPr/>
        </p:nvPicPr>
        <p:blipFill>
          <a:blip r:embed="rId22"/>
          <a:stretch/>
        </p:blipFill>
        <p:spPr>
          <a:xfrm>
            <a:off x="1066680" y="14479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98" name="pennyback" descr=""/>
          <p:cNvPicPr/>
          <p:nvPr/>
        </p:nvPicPr>
        <p:blipFill>
          <a:blip r:embed="rId23"/>
          <a:stretch/>
        </p:blipFill>
        <p:spPr>
          <a:xfrm>
            <a:off x="533520" y="19051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0"/>
            <a:ext cx="281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281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281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281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81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81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281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281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1066680"/>
          <a:ext cx="8610120" cy="5562000"/>
        </p:xfrm>
        <a:graphic>
          <a:graphicData uri="http://schemas.openxmlformats.org/drawingml/2006/table">
            <a:tbl>
              <a:tblPr/>
              <a:tblGrid>
                <a:gridCol w="4305240"/>
                <a:gridCol w="4304880"/>
              </a:tblGrid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teacher has more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: Know your coi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s have a front and a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know what they look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1346040"/>
                <a:gridCol w="1346040"/>
                <a:gridCol w="13464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72200" y="179064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391520" y="1752480"/>
            <a:ext cx="1257120" cy="1257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00600" y="342900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095880" y="3276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391520" y="32004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4572000" y="46483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6172200" y="4800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7467480" y="4572000"/>
            <a:ext cx="12574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 your coi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s have a front and a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know what they look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nn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1346040"/>
                <a:gridCol w="1346040"/>
                <a:gridCol w="13464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72200" y="179064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00600" y="342900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2574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 your coi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s have a front and a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know what they look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1346040"/>
                <a:gridCol w="1346040"/>
                <a:gridCol w="13464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72200" y="4800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2574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 your coi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s have a front and a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know what they look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icke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1346040"/>
                <a:gridCol w="1346040"/>
                <a:gridCol w="13464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91520" y="1752480"/>
            <a:ext cx="1257120" cy="1257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5880" y="3276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2574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 your coi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s have a front and a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know what they look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ar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1346040"/>
                <a:gridCol w="1346040"/>
                <a:gridCol w="13464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391520" y="32004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0" y="46483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2574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: Place your hai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hair equals 5 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ies are hairless.  They equal 1 c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els have 1 hair. They equal 5 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s have 2 hairs.  They equal 10 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s have 5 hairs.  They equal 25 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’ll show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: Place your hair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1447920"/>
            <a:ext cx="376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count the hairs by 5 you get the amount the coin eq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: Place your hair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029200" y="1447920"/>
            <a:ext cx="376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count the hairs by 5 you get the amount the coin eq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4:27:12Z</dcterms:created>
  <dc:creator> </dc:creator>
  <dc:description/>
  <dc:language>en-US</dc:language>
  <cp:lastModifiedBy> </cp:lastModifiedBy>
  <dcterms:modified xsi:type="dcterms:W3CDTF">2008-03-12T15:11:55Z</dcterms:modified>
  <cp:revision>15</cp:revision>
  <dc:subject/>
  <dc:title>Hairy Money</dc:title>
</cp:coreProperties>
</file>